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72978"/>
        <c:axId val="1397597"/>
      </c:barChart>
      <c:catAx>
        <c:axId val="12472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597"/>
        <c:crosses val="autoZero"/>
        <c:auto val="1"/>
        <c:lblAlgn val="ctr"/>
        <c:lblOffset val="100"/>
        <c:noMultiLvlLbl val="0"/>
      </c:catAx>
      <c:valAx>
        <c:axId val="1397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72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779-A096-425B-862E-602905B6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65A-79F6-4E3C-9B10-F3A6B235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503-332B-40E0-A729-56546F80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FD8-2CAB-4491-8A07-57BFE5C1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2FA-2203-4B58-BE8B-13670C9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C1B-4E1D-474F-8AA0-069AB9E1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9D5-0A3D-443C-A789-E085ADD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243-D82D-4A37-BE5D-7F1BC5B0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039-DF93-46A8-9572-DB0EEE2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4A7-5B4D-4C0F-AF92-6B411D9F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17E-45FA-42F8-91EB-92A4EA60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0CC-1D53-477A-B6B0-B500B4A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E7411-B755-41A2-A0AD-9B486791B1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