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72127"/>
        <c:axId val="38046647"/>
      </c:barChart>
      <c:catAx>
        <c:axId val="61972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46647"/>
        <c:crosses val="autoZero"/>
        <c:auto val="1"/>
        <c:lblAlgn val="ctr"/>
        <c:lblOffset val="100"/>
        <c:noMultiLvlLbl val="0"/>
      </c:catAx>
      <c:valAx>
        <c:axId val="38046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72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5F3-C743-48D0-8247-5BF5C9C3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B94-EDDE-472B-B20C-A318C7EB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755-4E2D-4A6B-BFA3-CBF6DA13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CAF-902C-480D-BB90-577BD5D2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EE2-4C51-4436-BB35-C9F31642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55E-5AEC-4143-894A-61E1EEE1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341-D7E8-4798-AE19-C6FDE365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8CB-8B7B-4725-9FBD-BD47C0CC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F95-0751-47DB-868C-31F567E4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9D1-D63E-479E-8553-B267678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369-825B-42CF-8B0E-1214027A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FEF-7F74-4136-A36D-5E48ED3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5B733-E812-45CB-81DF-CF8A557E7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