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04909"/>
        <c:axId val="2355184"/>
      </c:barChart>
      <c:catAx>
        <c:axId val="87504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5184"/>
        <c:crosses val="autoZero"/>
        <c:auto val="1"/>
        <c:lblAlgn val="ctr"/>
        <c:lblOffset val="100"/>
        <c:noMultiLvlLbl val="0"/>
      </c:catAx>
      <c:valAx>
        <c:axId val="2355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04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9EC-3393-431B-8B84-540E6EB3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611-F275-405D-9D87-642C3C96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FE9-7710-4434-9D0C-481EBE69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B11-BD0C-414D-B284-3B668E51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344-2063-46C5-8DB0-FB18BC34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D33-D07D-49CB-98A1-FFCE1016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63B-8735-4D08-A893-52D88E4B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7F4-5D31-49F0-8F0C-484125A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BE4-E1C4-4D9C-8CD9-705750FC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DF6-12A8-4F7C-A3A2-F573C9D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AC3-66F5-4F30-B33C-AFCF357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750-E13E-474E-AF4A-803A9E1D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4D3C1-53E8-43D0-A2D8-7FF29A316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