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00209"/>
        <c:axId val="4400293"/>
      </c:barChart>
      <c:catAx>
        <c:axId val="308002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0293"/>
        <c:crosses val="autoZero"/>
        <c:auto val="1"/>
        <c:lblAlgn val="ctr"/>
        <c:lblOffset val="100"/>
        <c:noMultiLvlLbl val="0"/>
      </c:catAx>
      <c:valAx>
        <c:axId val="4400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002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4488-4EF5-44C7-852F-E9495416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A1F-A9EC-4844-BFB1-1D78ED13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9B7-0B49-4E42-AEAF-AE4973D2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4C4-98B3-4904-870F-9C73DA95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8B5-C703-4602-A3A0-12DE8A0A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FFA-9E3E-408C-B36D-6D5720EE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AF1-6CE7-48B8-A303-E93D80E8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34D-47B7-407E-8849-29F512AE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AA0-8320-49F2-9674-451FDD57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D04-9528-4816-90F2-9B3BF8F7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E3C-BC66-44E2-A51F-E05FA0C6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DD71-C70A-4DD8-8D36-B19F8178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77E6D-ED34-4649-9F03-EE010D9361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