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52040"/>
        <c:axId val="25407534"/>
      </c:barChart>
      <c:catAx>
        <c:axId val="965520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07534"/>
        <c:crosses val="autoZero"/>
        <c:auto val="1"/>
        <c:lblAlgn val="ctr"/>
        <c:lblOffset val="100"/>
        <c:noMultiLvlLbl val="0"/>
      </c:catAx>
      <c:valAx>
        <c:axId val="254075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520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EEB-F65E-461E-A357-F03CE9E7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05B-5301-4A5F-A0D0-833C08F5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30C-10A6-48E9-A398-D7240399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0730-2AB1-4DB1-82B2-E2C798E7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D3BE-7CFB-47D8-BB6A-2D43999C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E83-B42F-4DDD-94CE-1A6086B6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2DC-B05A-4AFD-A903-865335DE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26C-7E00-48DC-856E-5C2BA833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26ED-A0AE-41FF-B7B6-8A3E2FF6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1242-5B72-42EB-9A0C-99E7A40B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743-B9B6-4C1D-8265-DC473C35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3E6-C7A0-4603-AEDC-A6D4214E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5AFE2-BF99-4453-A326-961048CD08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