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63912"/>
        <c:axId val="57492526"/>
      </c:barChart>
      <c:catAx>
        <c:axId val="63063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92526"/>
        <c:crosses val="autoZero"/>
        <c:auto val="1"/>
        <c:lblAlgn val="ctr"/>
        <c:lblOffset val="100"/>
        <c:noMultiLvlLbl val="0"/>
      </c:catAx>
      <c:valAx>
        <c:axId val="574925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63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274-E221-44A7-AD3F-F24951F9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6E8-08F6-4F16-9C86-31412C1A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6AF-2532-404F-9250-39DE1E85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371-9D2C-4FCC-BDDA-27CDB483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BF7C-1127-415C-98FE-F259043C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EDF-00D2-41A1-B736-793A788E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CB2E-4041-413A-BE78-84AB1380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6509-AED2-4E6A-9CFC-E5617D7F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79E-C42F-4857-ACD1-0A04798C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E49-E32A-4940-A7B9-B0D878EC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B7A-69C6-49BC-BD02-9013B308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B0E-5B6E-45E0-9CAE-384B7D70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7D16D-897A-4A31-80BC-B2FD48952C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