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21319"/>
        <c:axId val="85669436"/>
      </c:barChart>
      <c:catAx>
        <c:axId val="722213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69436"/>
        <c:crosses val="autoZero"/>
        <c:auto val="1"/>
        <c:lblAlgn val="ctr"/>
        <c:lblOffset val="100"/>
        <c:noMultiLvlLbl val="0"/>
      </c:catAx>
      <c:valAx>
        <c:axId val="856694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213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FF6-1434-4121-A4B9-57EBF089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395-8167-403E-A5FD-753E2376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C8A-22BC-4546-BD0B-F5C63544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9973-BDF3-412E-B710-E75250F1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338-9BC7-4058-8A7A-E2401AEC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3120-7DD4-48C0-967C-4307568F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6311-5135-4645-8421-E17CDA4A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716-345D-439B-ACD6-3CD8B4C4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389C-2F37-4213-A8DF-D95CE444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B99-3EC0-4F6E-95C0-CB055B65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829B-7D8C-4CB9-B4BC-14FC7223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937-47EB-44E9-8C00-86E1FF7C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220D1-4035-4F45-B342-1371AA01F6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