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841509"/>
        <c:axId val="81945207"/>
      </c:barChart>
      <c:catAx>
        <c:axId val="858415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45207"/>
        <c:crosses val="autoZero"/>
        <c:auto val="1"/>
        <c:lblAlgn val="ctr"/>
        <c:lblOffset val="100"/>
        <c:noMultiLvlLbl val="0"/>
      </c:catAx>
      <c:valAx>
        <c:axId val="819452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415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E7A-2D40-45B5-9BE5-A5E1C69D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A98D-0065-4960-916E-397443B8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E540-5931-4EBC-93DB-5EE23CC6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432D-14B0-46D2-92E9-18C826B1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0979-C508-4CD2-96CD-99A4E4E9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5286-6527-4E6C-824D-52A6BE09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FC7E-12C0-4331-95CB-80D8BD53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4ECA-0692-4C8E-A9C1-C40779ED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FE33-28EA-4227-8BE6-57018901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A5F1-1657-4980-A100-0B316BF3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8FF5-59E7-4FDB-BF16-5BD514D4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337F-E6E6-4533-8828-668BADBF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14F53-46AE-40ED-B980-035B9A5744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