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16306"/>
        <c:axId val="3097206"/>
      </c:barChart>
      <c:catAx>
        <c:axId val="59116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7206"/>
        <c:crosses val="autoZero"/>
        <c:auto val="1"/>
        <c:lblAlgn val="ctr"/>
        <c:lblOffset val="100"/>
        <c:noMultiLvlLbl val="0"/>
      </c:catAx>
      <c:valAx>
        <c:axId val="3097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16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F51-FD59-45C4-BF89-6C860B4F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6D6-58A2-4EC2-BF91-3A47498E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22A5-350E-4B47-AF65-42F93F95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F37-949C-4D95-A9F0-C1885D29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648-3D3C-401E-86E3-D4DB55CE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0D0-39F6-4DB4-9A52-0B4C6AFB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443-6F2A-437D-82CD-845F3B63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CAB-7857-4A84-BD17-1D307309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FF9-44EA-4379-8979-8D938B3E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05C-65BC-408F-BC82-3936AD94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0C5-1BC9-492D-A965-B9B93C39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346-602A-4C25-A755-1778CDA7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BF288-4FD2-46EF-80D3-36EA6283CB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