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31170"/>
        <c:axId val="9480288"/>
      </c:barChart>
      <c:catAx>
        <c:axId val="52131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288"/>
        <c:crosses val="autoZero"/>
        <c:auto val="1"/>
        <c:lblAlgn val="ctr"/>
        <c:lblOffset val="100"/>
        <c:noMultiLvlLbl val="0"/>
      </c:catAx>
      <c:valAx>
        <c:axId val="9480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31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DA1-2AD9-4C04-ADE1-0BD78CD8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0ED-9852-414C-AF82-1010D3E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E09-DC84-42B8-AA0A-D590CFC1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D97-311E-4CAD-BD70-D9D7BA2D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A73-1203-4465-8783-1FA9989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32F-DE9F-4BDE-BA7F-C8A1D23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A4D-8151-4AF8-998B-673A438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417-E461-431E-A8E0-F5F02FE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907-8A58-412C-A89A-6C35ECA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569-9EDF-4F5C-91F1-F33A72C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483-5CF4-436E-A287-5126F2E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B2A-810F-484C-A21A-B2188D65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F1D5-ADD1-4A9F-BF23-1E3EC66C42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